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B14-9AF8-43DF-9847-8EAFC471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451-A660-4CBC-B03F-3885E91B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9F8E-671E-475C-95BE-CB4F39C1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9B33-35F9-4C6B-923C-05151FC8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40B-CB78-448E-B283-6C069F22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A5E-5002-4642-8613-1B93A655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8C7B-2346-40D8-B9CE-F545B3F3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00B0-B9EE-4888-B9E6-B6E3E2AB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7348-A276-46B5-BD36-405B9490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390A-0F9A-4588-9CBE-50280DBE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7C01-F0A5-46DF-9481-646A00C6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B32E-6CFE-4F28-A16E-CF9EBF29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cago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hic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hicago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E2EF-1B9C-4415-8B38-2E0029471ADE}" type="slidenum">
              <a:rPr b="0" lang="ru-RU" sz="1200" spc="-1" strike="noStrike">
                <a:solidFill>
                  <a:srgbClr val="898989"/>
                </a:solidFill>
                <a:latin typeface="Chicag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hicago"/>
              </a:rPr>
              <a:t>«История создания денег».</a:t>
            </a:r>
            <a:r>
              <a:rPr b="1" lang="ru-RU" sz="4400" spc="-1" strike="noStrike">
                <a:solidFill>
                  <a:srgbClr val="000000"/>
                </a:solidFill>
                <a:latin typeface="Chicago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8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СОВРЕМЕННЫЕ ДЕНЬГ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Бумажные купюры выпускаются разного достоинства, на них изображены достопримечательности нашей страны и известные личности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89" name="Picture 12" descr="https://upload.wikimedia.org/wikipedia/commons/thumb/7/70/Banknote_10_rubles_%281997%29_front.jpg/1920px-Banknote_10_rubles_%281997%29_front.jpg"/>
          <p:cNvPicPr/>
          <p:nvPr/>
        </p:nvPicPr>
        <p:blipFill>
          <a:blip r:embed="rId1"/>
          <a:stretch/>
        </p:blipFill>
        <p:spPr>
          <a:xfrm>
            <a:off x="1187280" y="2924280"/>
            <a:ext cx="3097440" cy="1336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https://upload.wikimedia.org/wikipedia/commons/9/91/Banknote_50_rubles_%281997%29_front.jpg"/>
          <p:cNvPicPr/>
          <p:nvPr/>
        </p:nvPicPr>
        <p:blipFill>
          <a:blip r:embed="rId2"/>
          <a:stretch/>
        </p:blipFill>
        <p:spPr>
          <a:xfrm>
            <a:off x="1187280" y="4429080"/>
            <a:ext cx="3097440" cy="1362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https://upload.wikimedia.org/wikipedia/commons/b/bc/Banknote_100_rubles_%281997%29_front.jpg"/>
          <p:cNvPicPr/>
          <p:nvPr/>
        </p:nvPicPr>
        <p:blipFill>
          <a:blip r:embed="rId3"/>
          <a:stretch/>
        </p:blipFill>
        <p:spPr>
          <a:xfrm>
            <a:off x="4932360" y="2940120"/>
            <a:ext cx="3033720" cy="1334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https://upload.wikimedia.org/wikipedia/commons/thumb/8/8c/Banknote_500_rubles_%281997%29_front.jpg/1920px-Banknote_500_rubles_%281997%29_front.jpg"/>
          <p:cNvPicPr/>
          <p:nvPr/>
        </p:nvPicPr>
        <p:blipFill>
          <a:blip r:embed="rId4"/>
          <a:stretch/>
        </p:blipFill>
        <p:spPr>
          <a:xfrm>
            <a:off x="4932360" y="4481640"/>
            <a:ext cx="29084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СОВРЕМЕННЫЕ ДЕНЬГ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На бумажных знаках РФ изображены: 10 руб. – мост через Енисей в Красноярске; на 50 руб.- скульптура Ростральной колонны в Петербурге; на 100 руб. – Большой театр в Москве; на 500 руб. – памятник Петру 1 в Архангельске; на 1000 руб. – памятник Ярославу Мудрому в Ярославле; на 5000 руб. – памятник Муравьеву-Амурскому в Хабаровске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95" name="Picture 8" descr="https://upload.wikimedia.org/wikipedia/commons/thumb/d/d9/Banknote_1000_rubles_%281997%29_front.jpg/1920px-Banknote_1000_rubles_%281997%29_front.jpg"/>
          <p:cNvPicPr/>
          <p:nvPr/>
        </p:nvPicPr>
        <p:blipFill>
          <a:blip r:embed="rId1"/>
          <a:stretch/>
        </p:blipFill>
        <p:spPr>
          <a:xfrm>
            <a:off x="1258920" y="3916440"/>
            <a:ext cx="2881440" cy="1251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https://upload.wikimedia.org/wikipedia/commons/thumb/e/e3/Banknote_5000_rubles_%281997%29_front.jpg/1920px-Banknote_5000_rubles_%281997%29_front.jpg"/>
          <p:cNvPicPr/>
          <p:nvPr/>
        </p:nvPicPr>
        <p:blipFill>
          <a:blip r:embed="rId2"/>
          <a:stretch/>
        </p:blipFill>
        <p:spPr>
          <a:xfrm>
            <a:off x="4859280" y="3916440"/>
            <a:ext cx="28814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ИСТОЧНИКИ: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spcBef>
                <a:spcPts val="499"/>
              </a:spcBef>
              <a:buClr>
                <a:srgbClr val="898989"/>
              </a:buClr>
              <a:buFont typeface="Chicag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Фон для презентации:</a:t>
            </a:r>
            <a:r>
              <a:rPr b="0" lang="en-US" sz="2000" spc="-1" strike="noStrike">
                <a:solidFill>
                  <a:srgbClr val="898989"/>
                </a:solidFill>
                <a:latin typeface="Chicago"/>
              </a:rPr>
              <a:t> </a:t>
            </a:r>
            <a:r>
              <a:rPr b="0" lang="en-US" sz="2000" spc="-1" strike="noStrike">
                <a:solidFill>
                  <a:srgbClr val="254061"/>
                </a:solidFill>
                <a:latin typeface="Chicago"/>
              </a:rPr>
              <a:t>http://pedsovet.su/load/320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  <a:p>
            <a:pPr marL="457200" indent="-457200">
              <a:spcBef>
                <a:spcPts val="499"/>
              </a:spcBef>
              <a:buClr>
                <a:srgbClr val="7f7f7f"/>
              </a:buClr>
              <a:buFont typeface="Chicag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hicago"/>
              </a:rPr>
              <a:t>Картинки: </a:t>
            </a:r>
            <a:r>
              <a:rPr b="0" lang="en-US" sz="2000" spc="-1" strike="noStrike">
                <a:solidFill>
                  <a:srgbClr val="254061"/>
                </a:solidFill>
                <a:latin typeface="Chicago"/>
              </a:rPr>
              <a:t>http://yandex.ru/images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ПРЕДМЕТЫ, КОТОРЫЕ НУЖНЫ ЛЮДЯМ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44" name="Picture 2" descr="Цивилизации и культура &quot; uaisp.ru - Фото катастроф, Фен Шуй, Вселенная, Тусовка знаменитостей, Цивилизации и культура, Философия"/>
          <p:cNvPicPr/>
          <p:nvPr/>
        </p:nvPicPr>
        <p:blipFill>
          <a:blip r:embed="rId1"/>
          <a:stretch/>
        </p:blipFill>
        <p:spPr>
          <a:xfrm>
            <a:off x="839880" y="2363760"/>
            <a:ext cx="2354040" cy="1596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Коммунисты предложили снизить цены на хлеб и электроэнергию - Политика - NewsUkraine"/>
          <p:cNvPicPr/>
          <p:nvPr/>
        </p:nvPicPr>
        <p:blipFill>
          <a:blip r:embed="rId2"/>
          <a:stretch/>
        </p:blipFill>
        <p:spPr>
          <a:xfrm>
            <a:off x="3492360" y="2381400"/>
            <a:ext cx="2028960" cy="1596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Фотобанк ClipArtBank.ru,продажа лицензионных фотографий в России Русский фотосток,фотоклипарт российский.Купить лицензионные фот"/>
          <p:cNvPicPr/>
          <p:nvPr/>
        </p:nvPicPr>
        <p:blipFill>
          <a:blip r:embed="rId3"/>
          <a:stretch/>
        </p:blipFill>
        <p:spPr>
          <a:xfrm>
            <a:off x="5796000" y="2346480"/>
            <a:ext cx="2446200" cy="1631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Лента записей из дневника блогера Пингвинутый на всю голову. Страница 97 :: BlogRider.ru"/>
          <p:cNvPicPr/>
          <p:nvPr/>
        </p:nvPicPr>
        <p:blipFill>
          <a:blip r:embed="rId4"/>
          <a:stretch/>
        </p:blipFill>
        <p:spPr>
          <a:xfrm>
            <a:off x="1835280" y="410688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Новости &quot; Страница 38 &quot; TechCUBE - Свежие новости мира высоких технологий"/>
          <p:cNvPicPr/>
          <p:nvPr/>
        </p:nvPicPr>
        <p:blipFill>
          <a:blip r:embed="rId5"/>
          <a:stretch/>
        </p:blipFill>
        <p:spPr>
          <a:xfrm>
            <a:off x="4748040" y="4081320"/>
            <a:ext cx="25927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КАК ПОЛУЧИТЬ ТО, </a:t>
            </a:r>
            <a:br>
              <a:rPr sz="4000"/>
            </a:b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ЧТО ХОЧЕТСЯ?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56144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Можно обменяться или купить за деньги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51" name="Picture 2" descr="дети обмениваются игрушками &quot; Мамин Интерес"/>
          <p:cNvPicPr/>
          <p:nvPr/>
        </p:nvPicPr>
        <p:blipFill>
          <a:blip r:embed="rId1"/>
          <a:stretch/>
        </p:blipFill>
        <p:spPr>
          <a:xfrm>
            <a:off x="900000" y="2781360"/>
            <a:ext cx="3810240" cy="2676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Как купить автомобиль и &quot;не сесть в галошу&quot; Автосервис Механика г.Киров"/>
          <p:cNvPicPr/>
          <p:nvPr/>
        </p:nvPicPr>
        <p:blipFill>
          <a:blip r:embed="rId2"/>
          <a:stretch/>
        </p:blipFill>
        <p:spPr>
          <a:xfrm>
            <a:off x="4710240" y="2755800"/>
            <a:ext cx="331776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ЧТО ТАКОЕ ДЕНЬГИ?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561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Деньги – это то, что используют люди для покупки нужных вещей и предметов. Это то, что они получают за свой труд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55" name="Picture 2" descr="CHEB.net: Работникам культуры в Чувашии в этом году поднимут зарплату за счет объединения организаций и сокращения сотрудников -"/>
          <p:cNvPicPr/>
          <p:nvPr/>
        </p:nvPicPr>
        <p:blipFill>
          <a:blip r:embed="rId1"/>
          <a:stretch/>
        </p:blipFill>
        <p:spPr>
          <a:xfrm>
            <a:off x="1390680" y="2781360"/>
            <a:ext cx="6381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ИСТОРИЯ ВОЗНИКНОВЕНИЯ ДЕНЕГ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Много лет назад бумажных и металлических денег не было. Для получения нужных товаров люди обменивались на то, что ценилось. Вместо денег использовали: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58" name="Picture 2" descr="Самогон рисовый Supersadovod - о саде и огороде просто и интересно"/>
          <p:cNvPicPr/>
          <p:nvPr/>
        </p:nvPicPr>
        <p:blipFill>
          <a:blip r:embed="rId1"/>
          <a:stretch/>
        </p:blipFill>
        <p:spPr>
          <a:xfrm>
            <a:off x="876240" y="3141720"/>
            <a:ext cx="2090880" cy="1338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Павлодар Электронный город"/>
          <p:cNvPicPr/>
          <p:nvPr/>
        </p:nvPicPr>
        <p:blipFill>
          <a:blip r:embed="rId2"/>
          <a:stretch/>
        </p:blipFill>
        <p:spPr>
          <a:xfrm>
            <a:off x="6084720" y="3084480"/>
            <a:ext cx="2028960" cy="135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Почему в морской ракушке слышно как шумят волны?"/>
          <p:cNvPicPr/>
          <p:nvPr/>
        </p:nvPicPr>
        <p:blipFill>
          <a:blip r:embed="rId3"/>
          <a:stretch/>
        </p:blipFill>
        <p:spPr>
          <a:xfrm>
            <a:off x="3606840" y="309564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Обучение стилиста. Клуб, как стать стилистом."/>
          <p:cNvPicPr/>
          <p:nvPr/>
        </p:nvPicPr>
        <p:blipFill>
          <a:blip r:embed="rId4"/>
          <a:stretch/>
        </p:blipFill>
        <p:spPr>
          <a:xfrm>
            <a:off x="1925640" y="4668840"/>
            <a:ext cx="1616040" cy="1292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Что подарить девушке на 8 марта - 16 Ноября 2013 - Блог - Интересно в Жизне"/>
          <p:cNvPicPr/>
          <p:nvPr/>
        </p:nvPicPr>
        <p:blipFill>
          <a:blip r:embed="rId5"/>
          <a:stretch/>
        </p:blipFill>
        <p:spPr>
          <a:xfrm>
            <a:off x="3949560" y="4613400"/>
            <a:ext cx="1114560" cy="140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Грецкий орех - Flavour Art - Электронные сигареты и жидкости в Иваново"/>
          <p:cNvPicPr/>
          <p:nvPr/>
        </p:nvPicPr>
        <p:blipFill>
          <a:blip r:embed="rId6"/>
          <a:stretch/>
        </p:blipFill>
        <p:spPr>
          <a:xfrm>
            <a:off x="5514840" y="4668840"/>
            <a:ext cx="171792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ДЕНЬГИ НА РУС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Сначала на Руси использовали заграничные монеты, а потом стали чеканить свои – гривны. Гривну можно было разрубить на несколько частей и получить монеты меньшего достоинства. От слова «рубить» и появилось современное название РУБЛЬ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66" name="Picture 2" descr="Дирхемы Орды.Ханы разные.(до 15.07.12 в 22:00) - Форум Нумизмат.ru - все о нумизматике, монетах и нумизматах"/>
          <p:cNvPicPr/>
          <p:nvPr/>
        </p:nvPicPr>
        <p:blipFill>
          <a:blip r:embed="rId1"/>
          <a:stretch/>
        </p:blipFill>
        <p:spPr>
          <a:xfrm>
            <a:off x="1042920" y="3127320"/>
            <a:ext cx="2678040" cy="2631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odexmartialis.com * View topic - Medieval Polish Government"/>
          <p:cNvPicPr/>
          <p:nvPr/>
        </p:nvPicPr>
        <p:blipFill>
          <a:blip r:embed="rId2"/>
          <a:stretch/>
        </p:blipFill>
        <p:spPr>
          <a:xfrm>
            <a:off x="3851280" y="2982960"/>
            <a:ext cx="2405160" cy="1460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Коллекции и коллекционеры Лев и солнце"/>
          <p:cNvPicPr/>
          <p:nvPr/>
        </p:nvPicPr>
        <p:blipFill>
          <a:blip r:embed="rId3"/>
          <a:stretch/>
        </p:blipFill>
        <p:spPr>
          <a:xfrm>
            <a:off x="5724360" y="4443480"/>
            <a:ext cx="2484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ДЕНЬГИ НА РУС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Но долгое время основной являлась единицей расчета оставалась копейка – маленькая серебряная монета с изображением всадника с копьем. Отсюда и ее название – КОПЕЙКА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71" name="Picture 2" descr="Форум для : 478 лет назад в денежном обращении появилась копейка."/>
          <p:cNvPicPr/>
          <p:nvPr/>
        </p:nvPicPr>
        <p:blipFill>
          <a:blip r:embed="rId1"/>
          <a:stretch/>
        </p:blipFill>
        <p:spPr>
          <a:xfrm>
            <a:off x="900000" y="3417840"/>
            <a:ext cx="3527640" cy="2567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LanZone"/>
          <p:cNvPicPr/>
          <p:nvPr/>
        </p:nvPicPr>
        <p:blipFill>
          <a:blip r:embed="rId2"/>
          <a:stretch/>
        </p:blipFill>
        <p:spPr>
          <a:xfrm>
            <a:off x="4670280" y="3354480"/>
            <a:ext cx="349884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БУМАЖНЫЕ ДЕНЬГ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Бумажные банкноты появились значительно позже и понемногу начали вытеснять своих металлических собратьев, так как были дешевле по производству и удобнее в обороте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75" name="Picture 2" descr="5 рублей, 1890, копия, типографское качество / Аукцион 240 /…"/>
          <p:cNvPicPr/>
          <p:nvPr/>
        </p:nvPicPr>
        <p:blipFill>
          <a:blip r:embed="rId1"/>
          <a:stretch/>
        </p:blipFill>
        <p:spPr>
          <a:xfrm>
            <a:off x="971640" y="2924280"/>
            <a:ext cx="3371760" cy="207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10 рублей, 1918 / Аукцион 136 / БУМАЖНЫЕ ДЕНЬГИ (БОНЫ) * Россия 1917 - 1991 / Код 19573 - Нумизматический аукцион. Покупка, прод"/>
          <p:cNvPicPr/>
          <p:nvPr/>
        </p:nvPicPr>
        <p:blipFill>
          <a:blip r:embed="rId2"/>
          <a:stretch/>
        </p:blipFill>
        <p:spPr>
          <a:xfrm>
            <a:off x="4890960" y="3716280"/>
            <a:ext cx="32194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СОВРЕМЕННЫЕ ДЕНЬГ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В современной России люди пользуются как металлическими, так и бумажными деньгами. А называются они, как и много лет назад – КОПЕЙКА и РУБЛЬ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79" name="Picture 6" descr="Ижевчане могут заработать до 100 тысяч рублей на 50-копеечных монетах &quot; Новости Ижевска и Удмуртии, новости России и мира - на с"/>
          <p:cNvPicPr/>
          <p:nvPr/>
        </p:nvPicPr>
        <p:blipFill>
          <a:blip r:embed="rId1"/>
          <a:stretch/>
        </p:blipFill>
        <p:spPr>
          <a:xfrm>
            <a:off x="4427640" y="2938320"/>
            <a:ext cx="1625400" cy="162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2 рубля"/>
          <p:cNvPicPr/>
          <p:nvPr/>
        </p:nvPicPr>
        <p:blipFill>
          <a:blip r:embed="rId2"/>
          <a:stretch/>
        </p:blipFill>
        <p:spPr>
          <a:xfrm>
            <a:off x="2771640" y="292572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Фото - ИЩУ МОНЕТЫ 10 рублевые - Dirgo"/>
          <p:cNvPicPr/>
          <p:nvPr/>
        </p:nvPicPr>
        <p:blipFill>
          <a:blip r:embed="rId3"/>
          <a:stretch/>
        </p:blipFill>
        <p:spPr>
          <a:xfrm>
            <a:off x="6372360" y="2965320"/>
            <a:ext cx="1576080" cy="1576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1 рубль - это особая монета. Он не так прост, и не так дешев…"/>
          <p:cNvPicPr/>
          <p:nvPr/>
        </p:nvPicPr>
        <p:blipFill>
          <a:blip r:embed="rId4"/>
          <a:stretch/>
        </p:blipFill>
        <p:spPr>
          <a:xfrm>
            <a:off x="1244520" y="29653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Экспертиза наличных денежных средств, определение платежеспо…"/>
          <p:cNvPicPr/>
          <p:nvPr/>
        </p:nvPicPr>
        <p:blipFill>
          <a:blip r:embed="rId5"/>
          <a:stretch/>
        </p:blipFill>
        <p:spPr>
          <a:xfrm>
            <a:off x="1449360" y="4843440"/>
            <a:ext cx="784080" cy="784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8" descr="Факты о России : Факты с фильтрацией по метке монеты"/>
          <p:cNvPicPr/>
          <p:nvPr/>
        </p:nvPicPr>
        <p:blipFill>
          <a:blip r:embed="rId6"/>
          <a:stretch/>
        </p:blipFill>
        <p:spPr>
          <a:xfrm>
            <a:off x="2905200" y="47480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0" descr="Продам 10 копеек 2003г - 10 000 руб. объявление в Иркутске"/>
          <p:cNvPicPr/>
          <p:nvPr/>
        </p:nvPicPr>
        <p:blipFill>
          <a:blip r:embed="rId7"/>
          <a:stretch/>
        </p:blipFill>
        <p:spPr>
          <a:xfrm>
            <a:off x="4643280" y="4759200"/>
            <a:ext cx="1195560" cy="1176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2" descr="Ищу работу на ЗП не менее 200 р. в час - Страница 4 - Ищу - Автофорум Ростова-на-Дону"/>
          <p:cNvPicPr/>
          <p:nvPr/>
        </p:nvPicPr>
        <p:blipFill>
          <a:blip r:embed="rId8"/>
          <a:stretch/>
        </p:blipFill>
        <p:spPr>
          <a:xfrm>
            <a:off x="6372360" y="4532400"/>
            <a:ext cx="15303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13:14:53Z</dcterms:created>
  <dc:creator>123</dc:creator>
  <dc:description/>
  <dc:language>en-US</dc:language>
  <cp:lastModifiedBy>Таня и Славик</cp:lastModifiedBy>
  <dcterms:modified xsi:type="dcterms:W3CDTF">2023-12-22T03:41:19Z</dcterms:modified>
  <cp:revision>28</cp:revision>
  <dc:subject/>
  <dc:title>Слайд 1</dc:title>
</cp:coreProperties>
</file>